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739-FBD4-4B2E-B488-86B06A78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532-8CB9-46E4-A547-FBE658C8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95A-D5F2-4917-BFB5-CF6E97C3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FB5-2768-400F-9ED1-F4669EC0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275-2166-41EF-AACF-2373C042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AD2B-1A11-4EEC-B448-C1DC914A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E09-51E3-4ABD-8E5E-10663D93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8D1-2790-472E-83B5-24624378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146-021C-4065-B977-57E8FE40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D85-930A-4901-9F25-E3EFDF40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121-327C-4D85-BDF9-8E1DD65C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16D-D38D-498F-A8E0-8DF3BD86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9EF9-3153-443C-BDA9-5E985DA5064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63440"/>
            <a:ext cx="915192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rom data to action: lowering the grasping dimensionalities through synerg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28164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unimanual stacking.mp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324000" y="2781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eaching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ID_20130723_133237.mp4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unimanual stacking.mp4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324000" y="2781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eaching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916360" y="450864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executing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VID_20130723_133237.mp4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unimanual stacking.mp4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VID_20130723_140625.mp4" descr=""/>
          <p:cNvPicPr/>
          <p:nvPr/>
        </p:nvPicPr>
        <p:blipFill>
          <a:blip r:embed="rId3"/>
          <a:stretch/>
        </p:blipFill>
        <p:spPr>
          <a:xfrm>
            <a:off x="5796000" y="40053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324000" y="2781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eaching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2916360" y="450864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executing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5940360" y="6237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.generalizing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hoosing the right precision is importan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VID_20130724_144446.mp4" descr=""/>
          <p:cNvPicPr/>
          <p:nvPr/>
        </p:nvPicPr>
        <p:blipFill>
          <a:blip r:embed="rId1"/>
          <a:stretch/>
        </p:blipFill>
        <p:spPr>
          <a:xfrm>
            <a:off x="2050920" y="1700280"/>
            <a:ext cx="47656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much precision is needed to grasp sufficiently well a class of objec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much can generalize a given set of primitives? How can we define the extension of an object cla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is the best learning techniqu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tion capture vs kinaesthetic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115920"/>
            <a:ext cx="2602080" cy="1752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258920" y="2421000"/>
            <a:ext cx="669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arning from human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emonstr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ranslate learned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ehaviours into a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115920"/>
            <a:ext cx="2602080" cy="1752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1258920" y="2421000"/>
            <a:ext cx="669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arning from human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emonstr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ranslate learned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ehaviours into a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6360" y="338040"/>
            <a:ext cx="907128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IMG_20130712_185722.jpg"/>
          <p:cNvPicPr/>
          <p:nvPr/>
        </p:nvPicPr>
        <p:blipFill>
          <a:blip r:embed="rId1"/>
          <a:stretch/>
        </p:blipFill>
        <p:spPr>
          <a:xfrm>
            <a:off x="144360" y="144360"/>
            <a:ext cx="7452000" cy="5588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IMG_20130712_185648.jpg"/>
          <p:cNvPicPr/>
          <p:nvPr/>
        </p:nvPicPr>
        <p:blipFill>
          <a:blip r:embed="rId2"/>
          <a:stretch/>
        </p:blipFill>
        <p:spPr>
          <a:xfrm>
            <a:off x="826920" y="692280"/>
            <a:ext cx="8101080" cy="6075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108000" y="5842080"/>
            <a:ext cx="9036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How humans grasp object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VID_20130711_155242.mp4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5213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VID_20130711_155242.mp4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5519520" cy="4140360"/>
          </a:xfrm>
          <a:prstGeom prst="rect">
            <a:avLst/>
          </a:prstGeom>
          <a:ln w="0">
            <a:noFill/>
          </a:ln>
        </p:spPr>
      </p:pic>
      <p:pic>
        <p:nvPicPr>
          <p:cNvPr id="52" name="MVI_4576.AVI" descr=""/>
          <p:cNvPicPr/>
          <p:nvPr/>
        </p:nvPicPr>
        <p:blipFill>
          <a:blip r:embed="rId2"/>
          <a:stretch/>
        </p:blipFill>
        <p:spPr>
          <a:xfrm>
            <a:off x="2916360" y="21337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VID_20130711_155242.mp4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5519520" cy="4140360"/>
          </a:xfrm>
          <a:prstGeom prst="rect">
            <a:avLst/>
          </a:prstGeom>
          <a:ln w="0">
            <a:noFill/>
          </a:ln>
        </p:spPr>
      </p:pic>
      <p:pic>
        <p:nvPicPr>
          <p:cNvPr id="54" name="MVI_4576.AVI" descr=""/>
          <p:cNvPicPr/>
          <p:nvPr/>
        </p:nvPicPr>
        <p:blipFill>
          <a:blip r:embed="rId2"/>
          <a:stretch/>
        </p:blipFill>
        <p:spPr>
          <a:xfrm>
            <a:off x="2916360" y="21337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1979640" y="1628640"/>
            <a:ext cx="568800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hat can be learned from a human demonstrat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w kinematics discrepancies between human and robot impact on the learning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15920"/>
            <a:ext cx="2602080" cy="1752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258920" y="2421000"/>
            <a:ext cx="669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arning from human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emonstr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ranslate learned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ehaviours into a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4T13:22:55Z</dcterms:created>
  <dc:creator>Giuseppe Cotugno</dc:creator>
  <dc:description/>
  <dc:language>en-US</dc:language>
  <cp:lastModifiedBy>Giuseppe Cotugno</cp:lastModifiedBy>
  <dcterms:modified xsi:type="dcterms:W3CDTF">2013-07-24T14:09:39Z</dcterms:modified>
  <cp:revision>9</cp:revision>
  <dc:subject/>
  <dc:title>Slide 1</dc:title>
</cp:coreProperties>
</file>